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9.png" ContentType="image/png"/>
  <Override PartName="/ppt/media/image29.wmf" ContentType="image/x-wmf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32.wmf" ContentType="image/x-wmf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wmf" ContentType="image/x-wmf"/>
  <Override PartName="/ppt/media/image1.jpeg" ContentType="image/jpeg"/>
  <Override PartName="/ppt/media/image10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5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B81A-3AAF-4BEC-8243-F381FF2B6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7DEF-9869-4523-B813-E4BD967E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0F05-F8D9-4E58-8F21-6E15BD076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68C3-6C52-481F-BD32-C8B647BC1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F98C-A4A4-444E-B792-8F7B45EC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2A87-164D-49D0-9E73-02A0BCCC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1FF0-017E-418C-B1BC-F7679C56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3A61-BC96-498D-8993-7662249C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408D-024D-40EB-8EFC-38707E0B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FEF2-8C2C-4BFD-A5C7-D5BAB2BE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7877-E1DC-4AFB-9FDB-3B4F77D3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FD07-708A-45A2-AFC9-A1BE3CF2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8ECD-DF51-47A2-9BD0-2BC1C92E7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9151920" cy="68659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0"/>
            <a:ext cx="420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03A8-9DC8-474A-8F61-A1E684A3D309}" type="slidenum">
              <a:rPr b="1" lang="en-US" sz="1400" spc="-1" strike="noStrike">
                <a:solidFill>
                  <a:srgbClr val="bfd9e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115920"/>
            <a:ext cx="9151920" cy="68659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0" y="0"/>
            <a:ext cx="420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C3EA-8BEC-4579-966A-C4CF6A60865B}" type="slidenum">
              <a:rPr b="1" lang="en-US" sz="1400" spc="-1" strike="noStrike">
                <a:solidFill>
                  <a:srgbClr val="bfd9e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64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Some estim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684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Spec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Barn Swa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i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Great T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Pied Flycat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SongSpar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Soya Sh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Brown bear (Norw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Brown Bear (Swe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51280" y="1412640"/>
            <a:ext cx="5292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Dem.var   Env. Var. Dem./en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0.18                   0.024                  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0.27                   0.21                    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0.57                   0.079                   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0.33                   0.036                   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0.66                   0.41                  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0.28                   0.045                  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0.16                   0.003                  5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0.18                   0.000                  in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Models without environmental stochasticity are usually very unrealist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Demographic stochasticity must be included in extinction proce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Environmental stochasticit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Karlin and Attreya 1971, May 1973, 19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0160" y="-2199240"/>
            <a:ext cx="884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1.1 Coefficient of variation (CV ) for fluctuations in annual population size in birds. CV is calculated only for the last 20 years of dat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= average age at first breeding of fem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905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7902720" cy="587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4000" y="203040"/>
            <a:ext cx="8424720" cy="639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3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7850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Arial"/>
              </a:rPr>
              <a:t>Population viability analysis (PV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15920"/>
            <a:ext cx="71262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IUCN, International Union for Conservation of Nature and Natural Resour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Vulnerable spec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Endangered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Critically endangered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4753080" cy="65977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148000" y="404280"/>
            <a:ext cx="360036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Full model with environmental stochasticity, demographic stochasticity and uncertainty in estim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19640" y="2565360"/>
            <a:ext cx="29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Assuming no uncertainty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estim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92720" y="4653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Assuming no demograph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stochast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87280" y="-3916440"/>
            <a:ext cx="6656400" cy="8209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195640" y="69228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03280" y="3789360"/>
            <a:ext cx="662472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Estimated fluctuations of the Norwegian spring spawning herring with no harvesting (from Lillegård et al. Oikos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9640" y="-3627360"/>
            <a:ext cx="5759640" cy="10223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87280" y="907920"/>
            <a:ext cx="48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Proportional harv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99880"/>
            <a:ext cx="777240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333360"/>
            <a:ext cx="77724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Arial"/>
              </a:rPr>
              <a:t>Demographic and environmental stochasti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Arial"/>
              </a:rPr>
              <a:t>Extinction dynam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Arial"/>
              </a:rPr>
              <a:t>3.  Age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Arial"/>
              </a:rPr>
              <a:t>4.  Spati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Arial"/>
              </a:rPr>
              <a:t>5.  Population viability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Arial"/>
              </a:rPr>
              <a:t>6.  Sustainable harv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Arial"/>
              </a:rPr>
              <a:t>7.  Species diversi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Arial"/>
              </a:rPr>
              <a:t>8.  Community dynamic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4248000" cy="6193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332000" y="40464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Threshold harv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66596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43196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55640" y="-100080"/>
            <a:ext cx="46800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11280" y="-3267000"/>
            <a:ext cx="7678800" cy="9145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403280" y="551664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For details see Lillegård et al. in Oikos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Age-structured pop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Deterministic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Stochastic Leslie mat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Reproductive valu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Environmental var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Demographic var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Sim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4535640" cy="659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80880" y="190440"/>
            <a:ext cx="8382240" cy="640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80880" y="190440"/>
            <a:ext cx="8382240" cy="640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This tal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Stochasticity in population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Population viability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Harv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Stochastic age-structured 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Genetic drift in age-structured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4000" y="149400"/>
            <a:ext cx="8496000" cy="64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0880" y="190440"/>
            <a:ext cx="8382240" cy="640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7640" y="274680"/>
            <a:ext cx="8351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AGE-STRUCTURED POPULATION WITH NO DENSITY-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64803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95280" y="-100080"/>
            <a:ext cx="8569440" cy="669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3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80880" y="190440"/>
            <a:ext cx="8382240" cy="640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324000" y="260280"/>
            <a:ext cx="7127640" cy="2664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24000" y="3213000"/>
            <a:ext cx="734364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0" y="257040"/>
          <a:ext cx="8388360" cy="55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7040"/>
                    <a:ext cx="8388360" cy="55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24000" y="0"/>
          <a:ext cx="7704000" cy="58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0"/>
                    <a:ext cx="770400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1116000" y="587700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For details see Engen et al. in Math. Biosc.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317080" cy="16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Genetic drift in age-structured fluctuating populations (from Engen ,Lande and Sæther, Genetics 2005)</a:t>
            </a:r>
            <a:r>
              <a:rPr b="0" lang="nb-NO" sz="4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63640" y="2420640"/>
            <a:ext cx="4896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ffectiv 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Haploid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iploid monoeciou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iploid two-sex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35280" y="0"/>
            <a:ext cx="5184720" cy="6597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8360" y="1052640"/>
            <a:ext cx="2590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Population fluctuations for some spec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90440"/>
            <a:ext cx="8382240" cy="640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90440"/>
            <a:ext cx="8382240" cy="640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80880" y="190440"/>
            <a:ext cx="8382240" cy="633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90440"/>
            <a:ext cx="8382240" cy="633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973080" y="0"/>
            <a:ext cx="7561080" cy="6524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68360" y="595008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For details see Engen et al. in Genetics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8120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Stochasticity in population models has a demographic as well as en environmental compon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These are important in the analysis of extinction processes (population viability analysis), harvesting models, spatial models and stochastic abundance model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Harvesting strategies can be investigated by stochastic simulations provided that a stochastic model for the dynamics without harvesting is avail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Age-structured models without density-regulation can be approximated by a mod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with white noise, exponential growth and a demographic and environmental varian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Genetic drift of neutral genes in fluctuating age-structured models can be described by a few parameters. In the haploid case the drift is determined by the demographic variance only. In the diploid monoecious and two-sex case similar results are vali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The drift can here be described  by a parameter affected by demographic stochasticity and the stochastic sampling of genes from parents to offspr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1992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mographic stochastici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efers to chance events of individual mortality and reproduction.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irth - and death processes.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dependence between individuals for a given population siz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772400" cy="67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vironmental stochastici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efers to temporal fluctuations in the probability of mortality and reproductive rates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me effect on all individuals 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es dependence between individuals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211640" y="115920"/>
            <a:ext cx="4681440" cy="6481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9640" y="1216080"/>
            <a:ext cx="20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1916280"/>
            <a:ext cx="309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Arial"/>
              </a:rPr>
              <a:t>Distribution of individ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Arial"/>
              </a:rPr>
              <a:t>fitness 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Arial"/>
              </a:rPr>
              <a:t>for two bird spe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4000" y="203040"/>
            <a:ext cx="8496000" cy="6394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6T11:58:11Z</dcterms:created>
  <dc:creator>Even Gran</dc:creator>
  <dc:description/>
  <dc:language>en-US</dc:language>
  <cp:lastModifiedBy>steinaen</cp:lastModifiedBy>
  <cp:lastPrinted>2005-02-28T10:56:27Z</cp:lastPrinted>
  <dcterms:modified xsi:type="dcterms:W3CDTF">2005-09-05T10:01:11Z</dcterms:modified>
  <cp:revision>110</cp:revision>
  <dc:subject/>
  <dc:title>Ingen lysbildetittel</dc:title>
</cp:coreProperties>
</file>