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2.wmf" ContentType="image/x-wmf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946-B745-4016-8412-AC39885C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1EB-ACCC-44E7-9216-E9A3821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965-339F-4E6F-9370-4E8AFE41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CEE-AC61-46A4-9E71-F44A8017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8A2-D321-4B92-BF09-B36841C9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89A-9D8E-44A8-B820-1034DF0C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5C6-52B1-4663-9224-73DCE407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A31-F238-413C-8C46-25715066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FF4-7E48-4764-A263-8BAE196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291-64AA-4E0B-839C-D045C42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2F7-1502-45D3-83FB-76E0E48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AE6-414D-482F-8D39-F0B88D6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FFA6-13E1-4E41-A06F-1B487058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2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191-4006-4484-9F67-372EB939BA3E}" type="slidenum">
              <a:rPr b="1" lang="en-US" sz="1400" spc="-1" strike="noStrike">
                <a:solidFill>
                  <a:srgbClr val="bfd9e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115920"/>
            <a:ext cx="9151920" cy="6865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420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23B-098F-4AF0-A64B-93C75A24C13E}" type="slidenum">
              <a:rPr b="1" lang="en-US" sz="1400" spc="-1" strike="noStrike">
                <a:solidFill>
                  <a:srgbClr val="bfd9e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ome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arn 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reat 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ied Flyc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ng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y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own bear (Nor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Brown Bear (Sw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280" y="1412640"/>
            <a:ext cx="5292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Dem.var   Env. Var. Dem./en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8                   0.024           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27                   0.21                    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57                   0.079                   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33                   0.036                   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66                   0.41             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28                   0.045          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6                   0.003                  5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0.18                   0.000                  in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Models without environmental stochasticity are usually very un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mographic stochasticity must be included in extinction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nvironmental stochastic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Karlin and Attreya 1971, May 1973, 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160" y="-2199240"/>
            <a:ext cx="88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.1 Coefficient of variation (CV ) for fluctuations in annual population size in birds. CV is calculated only for the last 20 years of dat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= average age at first breeding of fe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905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90272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203040"/>
            <a:ext cx="8424720" cy="639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85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Population viability analysis (PV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15920"/>
            <a:ext cx="7126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UCN, International Union for Conservation of Nature and Natural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ulnerable spe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Critically 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4753080" cy="6597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8000" y="404280"/>
            <a:ext cx="36003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ull model with environmental stochasticity, demographic stochasticity and uncertainty in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2565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ssuming no uncertain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465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Assuming no demogra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ochas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87280" y="-3916440"/>
            <a:ext cx="6656400" cy="8209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692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3789360"/>
            <a:ext cx="6624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Estimated fluctuations of the Norwegian spring spawning herring with no harvesting (from Lillegård et al. Oikos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-3627360"/>
            <a:ext cx="5759640" cy="10223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7280" y="907920"/>
            <a:ext cx="48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roportional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emographic and environmental stochast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Extinction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3.  Ag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4.  Spati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5.  Population viability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6.  Sustainable harv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7.  Species divers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8.  Community dynam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4248000" cy="619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404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Threshold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6659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431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-100080"/>
            <a:ext cx="46800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-3267000"/>
            <a:ext cx="7678800" cy="9145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03280" y="5516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Lillegård et al. in Oiko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Age-structured pop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terminist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 Leslie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Reproductive valu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Environmental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Demographic var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45356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This tal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ity in popula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opulation viabil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tochastic age-structured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enetic drift in age-structure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4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74680"/>
            <a:ext cx="8351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AGE-STRUCTURED POPULATION WITH NO DENSITY-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64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-100080"/>
            <a:ext cx="856944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24000" y="260280"/>
            <a:ext cx="7127640" cy="266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7343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57040"/>
          <a:ext cx="8388360" cy="55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7040"/>
                    <a:ext cx="8388360" cy="55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24000" y="0"/>
          <a:ext cx="77040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770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16000" y="5877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Engen et al. in Math. Biosc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31708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Genetic drift in age-structured fluctuating populations (from Engen ,Lande and Sæther, Genetics 2005)</a:t>
            </a:r>
            <a:r>
              <a:rPr b="0" lang="nb-NO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640" y="2420640"/>
            <a:ext cx="48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ffectiv 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Haploi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loid monoeciou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iploid two-sex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5184720" cy="659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1052640"/>
            <a:ext cx="259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Population fluctuations for some 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90440"/>
            <a:ext cx="8382240" cy="63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7561080" cy="6524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8360" y="59500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or details see Engen et al. in Genetic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ochasticity in population models has a demographic as well as en environmental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se are important in the analysis of extinction processes (population viability analysis), harvesting models, spatial models and stochastic abundance mode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arvesting strategies can be investigated by stochastic simulations provided that a stochastic model for the dynamics without harvesting is avail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Age-structured models without density-regulation can be approximated by a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ith white noise, exponential growth and a demographic and environmental varia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Genetic drift of neutral genes in fluctuating age-structured models can be described by a few parameters. In the haploid case the drift is determined by the demographic variance only. In the diploid monoecious and two-sex case similar results are val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 drift can here be described  by a parameter affected by demographic stochasticity and the stochastic sampling of genes from parents to offspr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199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graphic stochastic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chance events of individual mortality and reproductio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rth - and death process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ependence between individuals for a given population siz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67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vironmental stochastic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emporal fluctuations in the probability of mortality and reproductive rates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effect on all individuals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s dependence between individuals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4681440" cy="648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1608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916280"/>
            <a:ext cx="30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Distribution of 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fitness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for two bird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203040"/>
            <a:ext cx="8496000" cy="639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1:58:11Z</dcterms:created>
  <dc:creator>Even Gran</dc:creator>
  <dc:description/>
  <dc:language>en-US</dc:language>
  <cp:lastModifiedBy>steinaen</cp:lastModifiedBy>
  <cp:lastPrinted>2005-02-28T10:56:27Z</cp:lastPrinted>
  <dcterms:modified xsi:type="dcterms:W3CDTF">2005-09-05T10:01:11Z</dcterms:modified>
  <cp:revision>110</cp:revision>
  <dc:subject/>
  <dc:title>Ingen lysbildetittel</dc:title>
</cp:coreProperties>
</file>